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10.wmf" ContentType="image/x-wmf"/>
  <Override PartName="/ppt/media/image7.png" ContentType="image/png"/>
  <Override PartName="/ppt/media/image8.jpeg" ContentType="image/jpeg"/>
  <Override PartName="/ppt/media/image9.jpeg" ContentType="image/jpeg"/>
  <Override PartName="/ppt/media/image11.jpeg" ContentType="image/jpeg"/>
  <Override PartName="/ppt/media/image12.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3C813-9CB8-45FB-8419-85830A03C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F6BA-3114-4AA9-A5CA-3842D49A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38A9C-BF36-482E-BB11-B4DA2CA83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C030C-81F1-47E9-9ACD-22CAFA42F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ABD47-DF25-46AE-B27B-F446F4519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D456D-B32F-41A1-A57A-34AD30E16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CECFC-01D6-4189-A5B9-AE5E1C543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A7E6B-C3FA-4E90-84FB-B77B34EF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28EE1-24B1-42E2-96D1-26C892476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3FA68-9E47-4BCE-99D9-D0219E6BB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ED49F-114D-49F6-AD29-2A1C35C7F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3EC6-7A83-48AA-A793-D20725845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0B5C9-68D7-4AA1-A08C-2BBF4A058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D354-32A9-4124-B3FB-D8C1E5B43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06DA0-CECB-4D70-B179-7222FD99D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B0E10-91CE-4F68-BE02-B4F59E807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5AE7D-8F64-4457-A3DE-3E20A2CD9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38C2-EB6B-44CD-A12D-EA4FF1B7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CC261-F6FE-4710-A54A-3D4B2308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675F-BE78-416A-8AB1-210EC73BA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2C2F-8D4F-424F-B101-3E69C655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9716-B359-4EFC-AD16-8675B91C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DD24-1EB0-4781-B02C-26F43D9A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B95F-4622-4622-AA9F-389B0192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1CD8-AA76-4E45-A095-66B9B66850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6849-F0AD-4659-A05F-E9E3E4E55E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Pcjnz26pnwY" TargetMode="External"/><Relationship Id="rId2" Type="http://schemas.openxmlformats.org/officeDocument/2006/relationships/hyperlink" Target="http://www.youtube.com/watch?v=2vBpkgJBiZY" TargetMode="External"/><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Proposed Budget</a:t>
            </a:r>
            <a:endParaRPr b="0" lang="en-US" sz="3600" spc="-1" strike="noStrike">
              <a:solidFill>
                <a:srgbClr val="8c0039"/>
              </a:solidFill>
              <a:latin typeface="Arial"/>
            </a:endParaRPr>
          </a:p>
        </p:txBody>
      </p:sp>
      <p:sp>
        <p:nvSpPr>
          <p:cNvPr id="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b1d"/>
                </a:solidFill>
                <a:latin typeface="Arial"/>
              </a:rPr>
              <a:t>High School Geometr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b1d"/>
                </a:solidFill>
                <a:latin typeface="Arial"/>
              </a:rPr>
              <a:t>Ms. Alissa Krug</a:t>
            </a:r>
            <a:endParaRPr b="0" lang="en-US" sz="3200" spc="-1" strike="noStrike">
              <a:solidFill>
                <a:srgbClr val="000000"/>
              </a:solidFill>
              <a:latin typeface="Arial"/>
            </a:endParaRPr>
          </a:p>
        </p:txBody>
      </p:sp>
      <p:pic>
        <p:nvPicPr>
          <p:cNvPr id="87" name="Picture 4" descr=""/>
          <p:cNvPicPr/>
          <p:nvPr/>
        </p:nvPicPr>
        <p:blipFill>
          <a:blip r:embed="rId1"/>
          <a:stretch/>
        </p:blipFill>
        <p:spPr>
          <a:xfrm>
            <a:off x="2666880" y="2286000"/>
            <a:ext cx="5415120" cy="401796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iagnostic Assessments</a:t>
            </a: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Questionnaire</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questionnaire is designed for you to answer first. You will then take the questionnaire home to your parents of guardians to see how their answers are similar or different from your responses. The questions will pertain to real world examples of surface area and area. This will not be a graded assignment.</a:t>
            </a:r>
            <a:endParaRPr b="0" lang="en-US" sz="16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Brain Drain</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designed for you to write down all that you already know about area and surface area before beginning discussion of the unit. This will aid in a deeper understanding of what you already know and how you learn. This will not be a graded assign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Surface Area and Area Pretest</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a pretest on solving for the area or surface area of basic shapes. Again, this pretest will not be a graded assessment. This will allow me to assess how prepared you already are and what shapes you are already familiar wit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ormative Assessments</a:t>
            </a:r>
            <a:endParaRPr b="0" lang="en-US" sz="3600" spc="-1" strike="noStrike">
              <a:solidFill>
                <a:srgbClr val="8c0039"/>
              </a:solidFill>
              <a:latin typeface="Arial"/>
            </a:endParaRPr>
          </a:p>
        </p:txBody>
      </p:sp>
      <p:sp>
        <p:nvSpPr>
          <p:cNvPr id="111" name="PlaceHolder 2"/>
          <p:cNvSpPr>
            <a:spLocks noGrp="1"/>
          </p:cNvSpPr>
          <p:nvPr>
            <p:ph/>
          </p:nvPr>
        </p:nvSpPr>
        <p:spPr>
          <a:xfrm>
            <a:off x="2437920" y="1599840"/>
            <a:ext cx="3124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Class work</a:t>
            </a:r>
            <a:endParaRPr b="0" lang="en-US" sz="2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ample class time to work collaboratively in completing class work as well as homework using the surface area and area formulas. You will display and explain your work on the board in the classroo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Open-ended Question</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complete an open-ended question using a rubric that we have co-created to guide you. After completing the open-ended question you will break off into small groups and assess each other using the same rubric. You will be able to provide suggestions to your classmates and reflect upon what it is they could do to improve their work for the next assessmen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Surface Area and Area Quizzes</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expected to complete quizzes on finding area and surface area of shapes. The quizzes given will be in the form of short answer responses and show your work. You will be able to use your quizzes as a self assessment tool to help attain the knowledge to better prepare yourself for the next assessment tas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a:off x="2424600" y="990720"/>
            <a:ext cx="652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mative assessments are for me to gain an understand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opics that may need re-teaching.</a:t>
            </a:r>
            <a:endParaRPr b="0" lang="en-US" sz="1800" spc="-1" strike="noStrike">
              <a:solidFill>
                <a:srgbClr val="000000"/>
              </a:solidFill>
              <a:latin typeface="Arial"/>
            </a:endParaRPr>
          </a:p>
        </p:txBody>
      </p:sp>
      <p:pic>
        <p:nvPicPr>
          <p:cNvPr id="114" name="" descr=""/>
          <p:cNvPicPr/>
          <p:nvPr/>
        </p:nvPicPr>
        <p:blipFill>
          <a:blip r:embed="rId1"/>
          <a:stretch/>
        </p:blipFill>
        <p:spPr>
          <a:xfrm>
            <a:off x="5791320" y="4572000"/>
            <a:ext cx="3124080" cy="201312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133720" y="0"/>
            <a:ext cx="7010280" cy="6858000"/>
          </a:xfrm>
          <a:prstGeom prst="rect">
            <a:avLst/>
          </a:prstGeom>
          <a:ln w="0">
            <a:noFill/>
          </a:ln>
        </p:spPr>
      </p:pic>
      <p:sp>
        <p:nvSpPr>
          <p:cNvPr id="116" name="PlaceHolder 1"/>
          <p:cNvSpPr>
            <a:spLocks noGrp="1"/>
          </p:cNvSpPr>
          <p:nvPr>
            <p:ph type="title"/>
          </p:nvPr>
        </p:nvSpPr>
        <p:spPr>
          <a:xfrm>
            <a:off x="2438280" y="2286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erformance Assessment</a:t>
            </a:r>
            <a:endParaRPr b="0" lang="en-US" sz="3600" spc="-1" strike="noStrike">
              <a:solidFill>
                <a:srgbClr val="8c0039"/>
              </a:solidFill>
              <a:latin typeface="Arial"/>
            </a:endParaRPr>
          </a:p>
        </p:txBody>
      </p:sp>
      <p:sp>
        <p:nvSpPr>
          <p:cNvPr id="117" name="PlaceHolder 2"/>
          <p:cNvSpPr>
            <a:spLocks noGrp="1"/>
          </p:cNvSpPr>
          <p:nvPr>
            <p:ph/>
          </p:nvPr>
        </p:nvSpPr>
        <p:spPr>
          <a:xfrm>
            <a:off x="2514600" y="2133720"/>
            <a:ext cx="6400800" cy="44956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al of the assessment:</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Your task</a:t>
            </a:r>
            <a:r>
              <a:rPr b="0" i="1" lang="en-US" sz="1600" spc="-1" strike="noStrike">
                <a:solidFill>
                  <a:srgbClr val="e4005c"/>
                </a:solidFill>
                <a:latin typeface="Arial"/>
              </a:rPr>
              <a:t> </a:t>
            </a:r>
            <a:r>
              <a:rPr b="0" lang="en-US" sz="1600" spc="-1" strike="noStrike">
                <a:solidFill>
                  <a:srgbClr val="e4005c"/>
                </a:solidFill>
                <a:latin typeface="Arial"/>
              </a:rPr>
              <a:t>is to put yourself in the eyes of a contractor in order to create a proposed budget for a room renovation. </a:t>
            </a:r>
            <a:endParaRPr b="0" lang="en-US" sz="16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stacles:</a:t>
            </a:r>
            <a:r>
              <a:rPr b="0" i="1" lang="en-US" sz="1800" spc="-1" strike="noStrike">
                <a:solidFill>
                  <a:srgbClr val="e4005c"/>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The obstacles to overcome are using surface area and area to find out how much material you will be using and what is the most cost efficient way to renovate the room with the materials the homeowner would like (for example: wallpaper, paint, carpet, wood flooring). </a:t>
            </a:r>
            <a:endParaRPr b="0" lang="en-US" sz="16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ole, Audience, and Situatio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You have been asked to complete a room renovation and provide a budget in which you will be able to accomplish this project. You need to convince the home owners that the budget you have calculated will be the most cost efficient way of completing the room renovation. The challenge involves dealing with shopping at multiple retailers to find the best buy, calculating the amount of the material you will need to complete the room renovation and discussing with the homeowners why your budget is the most cost effici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erformance Assessment Continued…</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005c"/>
                </a:solidFill>
                <a:latin typeface="Arial"/>
              </a:rPr>
              <a:t>Overall Product and Performance:</a:t>
            </a:r>
            <a:r>
              <a:rPr b="0" lang="en-US" sz="2000" spc="-1" strike="noStrike">
                <a:solidFill>
                  <a:srgbClr val="e4005c"/>
                </a:solidFill>
                <a:latin typeface="Arial"/>
              </a:rPr>
              <a:t> </a:t>
            </a:r>
            <a:endParaRPr b="0" lang="en-US" sz="20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will create a cost efficient proposed budget in order to complete the room renovation within the customer’s home. The customers you will be using are your parents or guardians in order to determine the materials that will be used in your budget. You will present your proposed budget to your classmates through use of visual representation. You may use a power point, slide show of your work, diorama, or data display using the information to support your findings. Finally, you will journal what it is you have learned throughout this assessment about real world applications. Your work will be judged based on the rubric we have co-created.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Surface Area of a Rectangular Pr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2"/>
              </a:rPr>
              <a:t>Area of a rectangle</a:t>
            </a:r>
            <a:endParaRPr b="0" lang="en-US" sz="3200" spc="-1" strike="noStrike">
              <a:solidFill>
                <a:srgbClr val="000000"/>
              </a:solidFill>
              <a:latin typeface="Arial"/>
            </a:endParaRPr>
          </a:p>
        </p:txBody>
      </p:sp>
      <p:pic>
        <p:nvPicPr>
          <p:cNvPr id="121" name="" descr=""/>
          <p:cNvPicPr/>
          <p:nvPr/>
        </p:nvPicPr>
        <p:blipFill>
          <a:blip r:embed="rId3"/>
          <a:stretch/>
        </p:blipFill>
        <p:spPr>
          <a:xfrm>
            <a:off x="4267080" y="2666880"/>
            <a:ext cx="2743200" cy="2133720"/>
          </a:xfrm>
          <a:prstGeom prst="rect">
            <a:avLst/>
          </a:prstGeom>
          <a:ln w="0">
            <a:noFill/>
          </a:ln>
        </p:spPr>
      </p:pic>
      <p:sp>
        <p:nvSpPr>
          <p:cNvPr id="122" name="PlaceHolder 2"/>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amples of Formulas</a:t>
            </a:r>
            <a:endParaRPr b="0" lang="en-US" sz="3600" spc="-1" strike="noStrike">
              <a:solidFill>
                <a:srgbClr val="8c0039"/>
              </a:solidFill>
              <a:latin typeface="Arial"/>
            </a:endParaRPr>
          </a:p>
        </p:txBody>
      </p:sp>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a:t>
            </a:r>
            <a:endParaRPr b="0" lang="en-US" sz="3600" spc="-1" strike="noStrike">
              <a:solidFill>
                <a:srgbClr val="8c0039"/>
              </a:solidFill>
              <a:latin typeface="Arial"/>
            </a:endParaRPr>
          </a:p>
        </p:txBody>
      </p:sp>
      <p:graphicFrame>
        <p:nvGraphicFramePr>
          <p:cNvPr id="124" name=""/>
          <p:cNvGraphicFramePr/>
          <p:nvPr/>
        </p:nvGraphicFramePr>
        <p:xfrm>
          <a:off x="2438280" y="1371600"/>
          <a:ext cx="6400800" cy="4826160"/>
        </p:xfrm>
        <a:graphic>
          <a:graphicData uri="http://schemas.openxmlformats.org/drawingml/2006/table">
            <a:tbl>
              <a:tblPr/>
              <a:tblGrid>
                <a:gridCol w="1600200"/>
                <a:gridCol w="1600200"/>
                <a:gridCol w="1600200"/>
                <a:gridCol w="1600200"/>
              </a:tblGrid>
              <a:tr h="10249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14965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ematical Calcul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completed calculations for surface area and area with no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completed calculations for surface area and area with few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completed calculations for surface area and area with many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2304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World Application</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successfully apply surface area and area concepts to real world situation. Students were able to prepare a proposed budget of material for a room renovation with no err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apply surface area and area concepts to real world situation. Students were able to prepare a proposed budget of material for a room renovation with few err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apply surface area and area concepts to real world situation. Students were able to prepare a proposed budget of material for a room renovation with many error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 Continued…</a:t>
            </a:r>
            <a:endParaRPr b="0" lang="en-US" sz="3600" spc="-1" strike="noStrike">
              <a:solidFill>
                <a:srgbClr val="8c0039"/>
              </a:solidFill>
              <a:latin typeface="Arial"/>
            </a:endParaRPr>
          </a:p>
        </p:txBody>
      </p:sp>
      <p:graphicFrame>
        <p:nvGraphicFramePr>
          <p:cNvPr id="126" name=""/>
          <p:cNvGraphicFramePr/>
          <p:nvPr/>
        </p:nvGraphicFramePr>
        <p:xfrm>
          <a:off x="2438280" y="1676520"/>
          <a:ext cx="6400800" cy="2895480"/>
        </p:xfrm>
        <a:graphic>
          <a:graphicData uri="http://schemas.openxmlformats.org/drawingml/2006/table">
            <a:tbl>
              <a:tblPr/>
              <a:tblGrid>
                <a:gridCol w="1600200"/>
                <a:gridCol w="1600200"/>
                <a:gridCol w="1600200"/>
                <a:gridCol w="1600200"/>
              </a:tblGrid>
              <a:tr h="9241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2099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Presentation</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creativity and technology into the visual present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little creativity and technology into the visual presen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no creativity and technology into the visual present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 Continued…</a:t>
            </a:r>
            <a:endParaRPr b="0" lang="en-US" sz="3600" spc="-1" strike="noStrike">
              <a:solidFill>
                <a:srgbClr val="8c0039"/>
              </a:solidFill>
              <a:latin typeface="Arial"/>
            </a:endParaRPr>
          </a:p>
        </p:txBody>
      </p:sp>
      <p:graphicFrame>
        <p:nvGraphicFramePr>
          <p:cNvPr id="128" name=""/>
          <p:cNvGraphicFramePr/>
          <p:nvPr/>
        </p:nvGraphicFramePr>
        <p:xfrm>
          <a:off x="2438280" y="1600200"/>
          <a:ext cx="6400800" cy="4836960"/>
        </p:xfrm>
        <a:graphic>
          <a:graphicData uri="http://schemas.openxmlformats.org/drawingml/2006/table">
            <a:tbl>
              <a:tblPr/>
              <a:tblGrid>
                <a:gridCol w="1600200"/>
                <a:gridCol w="1600200"/>
                <a:gridCol w="1600200"/>
                <a:gridCol w="1600200"/>
              </a:tblGrid>
              <a:tr h="990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84624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detailed written description of their room renovation includ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written description of their room renovation excluding one of the follow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written description of their room renovation excluding more than one of the follow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aper and Pencil Assessment</a:t>
            </a:r>
            <a:br>
              <a:rPr sz="3600"/>
            </a:br>
            <a:r>
              <a:rPr b="0" lang="en-US" sz="3600" spc="-1" strike="noStrike">
                <a:solidFill>
                  <a:srgbClr val="8c0039"/>
                </a:solidFill>
                <a:latin typeface="Arial"/>
              </a:rPr>
              <a:t>Surface Area and Area Test</a:t>
            </a:r>
            <a:endParaRPr b="0" lang="en-US" sz="3600" spc="-1" strike="noStrike">
              <a:solidFill>
                <a:srgbClr val="8c0039"/>
              </a:solidFill>
              <a:latin typeface="Arial"/>
            </a:endParaRPr>
          </a:p>
        </p:txBody>
      </p:sp>
      <p:sp>
        <p:nvSpPr>
          <p:cNvPr id="130" name="PlaceHolder 2"/>
          <p:cNvSpPr>
            <a:spLocks noGrp="1"/>
          </p:cNvSpPr>
          <p:nvPr>
            <p:ph/>
          </p:nvPr>
        </p:nvSpPr>
        <p:spPr>
          <a:xfrm>
            <a:off x="2437920" y="1600200"/>
            <a:ext cx="312444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Proposition</a:t>
            </a:r>
            <a:endParaRPr b="0" lang="en-US" sz="24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costs involved in painting and carpeting a room we can use the formulas for area and surface area to assist in our proced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Items</a:t>
            </a:r>
            <a:endParaRPr b="0" lang="en-US" sz="24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False questions(5)</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answer questions (10)</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hoice questions (5)</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ay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2438280" y="4343400"/>
            <a:ext cx="3810240" cy="2362320"/>
          </a:xfrm>
          <a:prstGeom prst="rect">
            <a:avLst/>
          </a:prstGeom>
          <a:ln w="0">
            <a:noFill/>
          </a:ln>
        </p:spPr>
      </p:pic>
      <p:pic>
        <p:nvPicPr>
          <p:cNvPr id="133" name="" descr=""/>
          <p:cNvPicPr/>
          <p:nvPr/>
        </p:nvPicPr>
        <p:blipFill>
          <a:blip r:embed="rId2"/>
          <a:stretch/>
        </p:blipFill>
        <p:spPr>
          <a:xfrm>
            <a:off x="7238880" y="4114800"/>
            <a:ext cx="1703520" cy="255744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ent Scores and Reflections</a:t>
            </a:r>
            <a:endParaRPr b="0" lang="en-US" sz="3600" spc="-1" strike="noStrike">
              <a:solidFill>
                <a:srgbClr val="8c0039"/>
              </a:solidFill>
              <a:latin typeface="Arial"/>
            </a:endParaRPr>
          </a:p>
        </p:txBody>
      </p:sp>
      <p:graphicFrame>
        <p:nvGraphicFramePr>
          <p:cNvPr id="135" name=""/>
          <p:cNvGraphicFramePr/>
          <p:nvPr/>
        </p:nvGraphicFramePr>
        <p:xfrm>
          <a:off x="2362320" y="1600200"/>
          <a:ext cx="6400800" cy="4695840"/>
        </p:xfrm>
        <a:graphic>
          <a:graphicData uri="http://schemas.openxmlformats.org/drawingml/2006/table">
            <a:tbl>
              <a:tblPr/>
              <a:tblGrid>
                <a:gridCol w="1600200"/>
                <a:gridCol w="1600200"/>
                <a:gridCol w="1600200"/>
                <a:gridCol w="1600200"/>
              </a:tblGrid>
              <a:tr h="6973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Ear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639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st- surface area and a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1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ended ques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df4"/>
                    </a:solidFill>
                  </a:tcPr>
                </a:tc>
              </a:tr>
              <a:tr h="6393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Area Qui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1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Qui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df4"/>
                    </a:solidFill>
                  </a:tcPr>
                </a:tc>
              </a:tr>
              <a:tr h="79704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m Renovation Proposed Budg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008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Area and Area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pic>
        <p:nvPicPr>
          <p:cNvPr id="136" name="" descr=""/>
          <p:cNvPicPr/>
          <p:nvPr/>
        </p:nvPicPr>
        <p:blipFill>
          <a:blip r:embed="rId1"/>
          <a:stretch/>
        </p:blipFill>
        <p:spPr>
          <a:xfrm>
            <a:off x="7315200" y="0"/>
            <a:ext cx="1566720" cy="160020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5c"/>
                </a:solidFill>
                <a:latin typeface="Arial"/>
              </a:rPr>
              <a:t>Room Renovation Proposed Budget</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66ff"/>
                </a:solidFill>
                <a:latin typeface="Stone Sans"/>
              </a:rPr>
              <a:t>Within this unit you will experience the correlation between geometry, technology, family and consumer sciences as well as Language Arts.</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90d"/>
                </a:solidFill>
                <a:latin typeface="Stone Sans"/>
              </a:rPr>
              <a:t>The purpose of this presentation is to inform you of the importance of surface area and area in real world situations. You will use this presentation to help you successfully meet the requirements of the final proposed budget for a room renovation. Feel free to email any questions you may have along the way or ask in class. Good luck to all!!</a:t>
            </a:r>
            <a:endParaRPr b="0" lang="en-US" sz="23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Ms. Krug</a:t>
            </a:r>
            <a:r>
              <a:rPr b="0" lang="en-US" sz="2300" spc="-1" strike="noStrike">
                <a:solidFill>
                  <a:srgbClr val="3333cc"/>
                </a:solidFill>
                <a:latin typeface="Stone Sans"/>
              </a:rPr>
              <a:t>	</a:t>
            </a:r>
            <a:endParaRPr b="0" lang="en-US" sz="2300" spc="-1" strike="noStrike">
              <a:solidFill>
                <a:srgbClr val="000000"/>
              </a:solidFill>
              <a:latin typeface="Arial"/>
            </a:endParaRPr>
          </a:p>
        </p:txBody>
      </p:sp>
      <p:pic>
        <p:nvPicPr>
          <p:cNvPr id="90" name="" descr=""/>
          <p:cNvPicPr/>
          <p:nvPr/>
        </p:nvPicPr>
        <p:blipFill>
          <a:blip r:embed="rId1"/>
          <a:stretch/>
        </p:blipFill>
        <p:spPr>
          <a:xfrm>
            <a:off x="2438280" y="4876920"/>
            <a:ext cx="1814760" cy="181440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a:t>
            </a:r>
            <a:endParaRPr b="0" lang="en-US" sz="3600" spc="-1" strike="noStrike">
              <a:solidFill>
                <a:srgbClr val="8c0039"/>
              </a:solidFill>
              <a:latin typeface="Arial"/>
            </a:endParaRPr>
          </a:p>
        </p:txBody>
      </p:sp>
      <p:graphicFrame>
        <p:nvGraphicFramePr>
          <p:cNvPr id="138" name=""/>
          <p:cNvGraphicFramePr/>
          <p:nvPr/>
        </p:nvGraphicFramePr>
        <p:xfrm>
          <a:off x="2438280" y="1600200"/>
          <a:ext cx="6400800" cy="3668760"/>
        </p:xfrm>
        <a:graphic>
          <a:graphicData uri="http://schemas.openxmlformats.org/drawingml/2006/table">
            <a:tbl>
              <a:tblPr/>
              <a:tblGrid>
                <a:gridCol w="1600200"/>
                <a:gridCol w="1600200"/>
                <a:gridCol w="1600200"/>
                <a:gridCol w="1600200"/>
              </a:tblGrid>
              <a:tr h="6004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0682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earning goals matched to assessment method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rporates 21</a:t>
                      </a:r>
                      <a:r>
                        <a:rPr b="0" lang="en-US" sz="1000" spc="-1" strike="noStrike" baseline="30000">
                          <a:solidFill>
                            <a:srgbClr val="000000"/>
                          </a:solidFill>
                          <a:latin typeface="Arial"/>
                        </a:rPr>
                        <a:t>st</a:t>
                      </a:r>
                      <a:r>
                        <a:rPr b="0" lang="en-US" sz="1000" spc="-1" strike="noStrike">
                          <a:solidFill>
                            <a:srgbClr val="000000"/>
                          </a:solidFill>
                          <a:latin typeface="Arial"/>
                        </a:rPr>
                        <a:t> century skills of thinking critically and creatively while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assessments (pictures) that vary in type to make inferences from evide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entic opportunities of real-life application of knowledge and skills that gives students the opportunity to work in their own learning prefer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ous methods and approaches for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 variety of assessments to make inferences from evidence; a photo album, not a single pictu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opportunities for authentic application of knowledge and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ethod or approach of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ngle pictu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authentic opportunities for application of knowledge and skill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0" name=""/>
          <p:cNvGraphicFramePr/>
          <p:nvPr/>
        </p:nvGraphicFramePr>
        <p:xfrm>
          <a:off x="2438280" y="1600200"/>
          <a:ext cx="6400800" cy="4071960"/>
        </p:xfrm>
        <a:graphic>
          <a:graphicData uri="http://schemas.openxmlformats.org/drawingml/2006/table">
            <a:tbl>
              <a:tblPr/>
              <a:tblGrid>
                <a:gridCol w="1600200"/>
                <a:gridCol w="1600200"/>
                <a:gridCol w="1600200"/>
                <a:gridCol w="1600200"/>
              </a:tblGrid>
              <a:tr h="8287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24324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iagnostic assessments (pre-assessmen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e-assessments that involve a student’s family or communit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opportunities of reflectio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in multiple forms more than at the beginning of a un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ast one that provides information about a student’s family or communit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s reflection on the student’s par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grad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at the beginning of the unit, identify misconceptions, skill levels, interests, reveals learning preferenc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poseful with a clearly focused identified targ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include: pre-tests, skill checks, concept maps, drawings, KWL cha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information about the student’s famil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provide reflection for the stud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d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dentify misconceptions or skills levels, interests, or learning preferenc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cused on an identified targe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2" name=""/>
          <p:cNvGraphicFramePr/>
          <p:nvPr/>
        </p:nvGraphicFramePr>
        <p:xfrm>
          <a:off x="2438280" y="1600200"/>
          <a:ext cx="6400800" cy="4618080"/>
        </p:xfrm>
        <a:graphic>
          <a:graphicData uri="http://schemas.openxmlformats.org/drawingml/2006/table">
            <a:tbl>
              <a:tblPr/>
              <a:tblGrid>
                <a:gridCol w="1600200"/>
                <a:gridCol w="1600200"/>
                <a:gridCol w="1600200"/>
                <a:gridCol w="1600200"/>
              </a:tblGrid>
              <a:tr h="67500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9430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scriptions of formative assessment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assessments in multiple forms to reach the multiple learning preferences of the students.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e the students in the formation of the assessment mechanism by suggestions or the test, performance assessments, co-constructing rubrics, and record keep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ve feedback related to the criteria is give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ed up with high-quality corrective instruction to help students remedy whatever learning errors are identifi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 assessments that are used to constantly monitor the progress of the students and to inform the instruction of the teach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e the students in the formation of the assessment mechanism in at least one way so that students know their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elf-assess their own performa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related to the criteria is give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ed up with corrective instru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not ongoing assessm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volve students in the formation of the assessment mechanism.  Students do not have clear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not given an opportunity to self-assess their own performa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specific feedback (A, 82%, et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llowed up with corrective instruc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4" name=""/>
          <p:cNvGraphicFramePr/>
          <p:nvPr/>
        </p:nvGraphicFramePr>
        <p:xfrm>
          <a:off x="2438280" y="1295280"/>
          <a:ext cx="6400800" cy="5415120"/>
        </p:xfrm>
        <a:graphic>
          <a:graphicData uri="http://schemas.openxmlformats.org/drawingml/2006/table">
            <a:tbl>
              <a:tblPr/>
              <a:tblGrid>
                <a:gridCol w="1600200"/>
                <a:gridCol w="1600200"/>
                <a:gridCol w="1600200"/>
                <a:gridCol w="1600200"/>
              </a:tblGrid>
              <a:tr h="59724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48178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utline of performance assessment (summative assessmen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 upon the knowledge students already have in order for transfer to take pla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backward mapp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involved in regular feedback and experience constructive corrective teach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scaffold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to all different learning styles (ex. Visual, auditory, kinestheti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 broad mixture of testing components (ex. constructed response, multiple choice, performance, fill in the blan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entic application related to a real-world situation that engages all students and allows for deeper understandings to be show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at the beginning of the uni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the essential question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ability for students to transfer knowled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regular feedback to the stu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to most all areas of learning styl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t least two testing components (ex.: constructed response, multiple choice, performance, fill in the blan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mostly authentic and students are engag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given at the beginning of the uni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cused on the essential question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k of regular feedbac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s mainly on one learning styl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testing component is incorporated into assess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not authentic and has no relevance to a real-world situation.  Assessment pieces do not provide engaging activities for student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6" name=""/>
          <p:cNvGraphicFramePr/>
          <p:nvPr/>
        </p:nvGraphicFramePr>
        <p:xfrm>
          <a:off x="2438280" y="1600200"/>
          <a:ext cx="6400800" cy="4017960"/>
        </p:xfrm>
        <a:graphic>
          <a:graphicData uri="http://schemas.openxmlformats.org/drawingml/2006/table">
            <a:tbl>
              <a:tblPr/>
              <a:tblGrid>
                <a:gridCol w="1600200"/>
                <a:gridCol w="1600200"/>
                <a:gridCol w="1600200"/>
                <a:gridCol w="1600200"/>
              </a:tblGrid>
              <a:tr h="59976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41820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bric for performance assessmen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clear and focused goals that are well explain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in kid langua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ake part in co-writing the rubri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given an opportunity to self-evaluate, and adjus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students feedback comments that include action steps to improve the assess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models of students work at varying ability levels (excellence and poor) are provided and discussed with stud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lly aligned with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able to stud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informed for what is expec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given an opportunity for self-adjust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comments are incorpora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s of student work are provided and discussed with stud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gue relation to learning goals and enduring understanding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in adult langua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nformed receiv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ks the opportunity for students to gain insight from feedback and adjus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is not incorpora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odels of student work are provid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eacher Revisions</a:t>
            </a: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Proposed Budget Overview</a:t>
            </a:r>
            <a:endParaRPr b="0" lang="en-US" sz="3600" spc="-1" strike="noStrike">
              <a:solidFill>
                <a:srgbClr val="8c0039"/>
              </a:solidFill>
              <a:latin typeface="Arial"/>
            </a:endParaRPr>
          </a:p>
        </p:txBody>
      </p:sp>
      <p:sp>
        <p:nvSpPr>
          <p:cNvPr id="92" name="PlaceHolder 2"/>
          <p:cNvSpPr>
            <a:spLocks noGrp="1"/>
          </p:cNvSpPr>
          <p:nvPr>
            <p:ph/>
          </p:nvPr>
        </p:nvSpPr>
        <p:spPr>
          <a:xfrm>
            <a:off x="2437920" y="1600200"/>
            <a:ext cx="312444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4005c"/>
                </a:solidFill>
                <a:latin typeface="Arial"/>
              </a:rPr>
              <a:t>Students will be able to understand that:</a:t>
            </a:r>
            <a:endParaRPr b="0" lang="en-US" sz="18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Area is used to calculate the amount of space covered with a shape of single dimensio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Surface area is used to calculate the amount of space covered with a three dimensional sha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4005c"/>
                </a:solidFill>
                <a:latin typeface="Arial"/>
              </a:rPr>
              <a:t>Students will know</a:t>
            </a:r>
            <a:r>
              <a:rPr b="1" i="1" lang="en-US" sz="1700" spc="-1" strike="noStrike">
                <a:solidFill>
                  <a:srgbClr val="e4005c"/>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Vocabulary: area and surface area formula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Mathematical skill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How to determine which formula they will need to use for their calculation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onversions of inches, yards and fee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Determine cost efficiency (Busines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reate a visual representation of final project (Art and Technology)</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reate a written summary of their findings (Language Arts)</a:t>
            </a:r>
            <a:endParaRPr b="0" lang="en-US" sz="1600" spc="-1" strike="noStrike">
              <a:solidFill>
                <a:srgbClr val="000000"/>
              </a:solidFill>
              <a:latin typeface="Arial"/>
            </a:endParaRPr>
          </a:p>
        </p:txBody>
      </p:sp>
      <p:pic>
        <p:nvPicPr>
          <p:cNvPr id="94" name="Picture 7" descr=""/>
          <p:cNvPicPr/>
          <p:nvPr/>
        </p:nvPicPr>
        <p:blipFill>
          <a:blip r:embed="rId1"/>
          <a:stretch/>
        </p:blipFill>
        <p:spPr>
          <a:xfrm>
            <a:off x="2743200" y="4114800"/>
            <a:ext cx="2184480" cy="149076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a:t>
            </a:r>
            <a:endParaRPr b="0" lang="en-US" sz="3600" spc="-1" strike="noStrike">
              <a:solidFill>
                <a:srgbClr val="8c0039"/>
              </a:solidFill>
              <a:latin typeface="Arial"/>
            </a:endParaRPr>
          </a:p>
        </p:txBody>
      </p:sp>
      <p:sp>
        <p:nvSpPr>
          <p:cNvPr id="96" name="PlaceHolder 2"/>
          <p:cNvSpPr>
            <a:spLocks noGrp="1"/>
          </p:cNvSpPr>
          <p:nvPr>
            <p:ph/>
          </p:nvPr>
        </p:nvSpPr>
        <p:spPr>
          <a:xfrm>
            <a:off x="2438280" y="1599840"/>
            <a:ext cx="6400800" cy="487692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005c"/>
                </a:solidFill>
                <a:latin typeface="Arial"/>
              </a:rPr>
              <a:t>New Jersey Core Curriculum Content Standard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E.2- Use a variety of strategies to determine perimeter and area of plane figures and surface area of 3D figur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1- Use geometric models to represent real world situations and objects and to solve problems using those model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3- Apply the properties of geometric shap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4- Use reasoning and some form of proof to verify or refute conjectures or theorem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1- Learn mathematics through problem solving, inquiry, and discover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2- Solve problems that arise in mathematics and in other context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3- Select and apply a variety of appropriate problem solving strategi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4- Pose problems of various types and levels of difficult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5- Monitor their progress and reflect on the process of their problem solving activit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1- Use communication to organize and clarify their mathematical thinking.</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2- Communicate their mathematical thinking coherently and clearly to peers, teachers, and others, both orally and in writing.</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3- analyze and evaluate the mathematical thinking and strategies of other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4- Use the language of mathematics to express mathematical ideas precisely.</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 Continued..</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1- recognize recurring themes across mathematical domain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2- Use connections among mathematical ideas to explain concept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3- Recognize that mathematics is used in a variety of contexts outside of mathematic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4- Apply mathematics in practical situations and in other discipline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6-Understand how mathematical ideas interconnect and build on one another to produce a coherent whole.</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1- Create and use representations to organize, record and communicate mathematical idea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2- Select, apply and translate among mathematical representations to solve problem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3- Use representations to model and interpret physical, social, and mathematical phenomena </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12.F.3 Select and utilize resources that have been modified by digital tools (e.g., CNC equipment, CAD software) in the creation of a technological product or system.</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2.A.9</a:t>
            </a:r>
            <a:r>
              <a:rPr b="1" lang="en-US" sz="1400" spc="-1" strike="noStrike">
                <a:solidFill>
                  <a:srgbClr val="000000"/>
                </a:solidFill>
                <a:latin typeface="Arial"/>
              </a:rPr>
              <a:t> </a:t>
            </a:r>
            <a:r>
              <a:rPr b="0" lang="en-US" sz="1400" spc="-1" strike="noStrike">
                <a:solidFill>
                  <a:srgbClr val="000000"/>
                </a:solidFill>
                <a:latin typeface="Arial"/>
              </a:rPr>
              <a:t>Reflect on own writing and establish goals for growth and improvement.</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2.C.1 Use Standard English conventions in all writing (sentence structure, grammar and usage, punctuation, capitalization, spelling).</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12 E</a:t>
            </a:r>
            <a:r>
              <a:rPr b="1" lang="en-US" sz="1400" spc="-1" strike="noStrike">
                <a:solidFill>
                  <a:srgbClr val="000000"/>
                </a:solidFill>
                <a:latin typeface="Arial"/>
              </a:rPr>
              <a:t>.</a:t>
            </a:r>
            <a:r>
              <a:rPr b="0" lang="en-US" sz="1400" spc="-1" strike="noStrike">
                <a:solidFill>
                  <a:srgbClr val="000000"/>
                </a:solidFill>
                <a:latin typeface="Arial"/>
              </a:rPr>
              <a:t>5. Use comparative shopping techniques for the acquisition of goods and service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2 D.2 Perform various methods and techniques used in the production of works of art.</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 Continued…</a:t>
            </a:r>
            <a:endParaRPr b="0" lang="en-US" sz="36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005c"/>
                </a:solidFill>
                <a:latin typeface="Arial"/>
              </a:rPr>
              <a:t>National Mathematics Standard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properties and determine attributes of two and three-dimensional object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relationships (including congruence and similarity) among classes of two and three-dimensional geometric objects, make and test conjectures about them, and solve problems involving th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the validity of geometric conjectures using deduction, prove theorems, and critique arguments made by other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nd construct representations of two and three-dimensional geometric objects using a variety of tool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eometric models to gain insights into, and answer questions in, other areas of mathematic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eometric ideas to solve problems in, and gain insights into, other disciplines and other areas of interest such as art and architecture.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Learning Goals</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identify and define shape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successfully calculate area of shape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successfully calculate the surface area of a given shap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apply understanding of formulas to real world situation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calculate the total area of rooms in their home and students will be able to calculate the total surface area of rooms in their hom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determine how much material will be needed to complete a renovation</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calculate total expenses for renovations, and students will be able to create a proposed budget for the room renov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ssential Questions</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en am I going to use area and surface area in real life situations? </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determine how much material you will need as well as the final costs?</a:t>
            </a:r>
            <a:endParaRPr b="0" lang="en-US" sz="2300" spc="-1" strike="noStrike">
              <a:solidFill>
                <a:srgbClr val="000000"/>
              </a:solidFill>
              <a:latin typeface="Arial"/>
            </a:endParaRPr>
          </a:p>
          <a:p>
            <a:pPr marL="343080" indent="0" algn="ctr">
              <a:lnSpc>
                <a:spcPct val="8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else can I use area and surface area around the home?</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calculate area and surface area and what is the difference between them?</a:t>
            </a:r>
            <a:endParaRPr b="0" lang="en-US" sz="2300" spc="-1" strike="noStrike">
              <a:solidFill>
                <a:srgbClr val="000000"/>
              </a:solidFill>
              <a:latin typeface="Arial"/>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s</a:t>
            </a:r>
            <a:endParaRPr b="0" lang="en-US" sz="3600" spc="-1" strike="noStrike">
              <a:solidFill>
                <a:srgbClr val="8c0039"/>
              </a:solidFill>
              <a:latin typeface="Arial"/>
            </a:endParaRPr>
          </a:p>
        </p:txBody>
      </p:sp>
      <p:pic>
        <p:nvPicPr>
          <p:cNvPr id="106" name="Content Placeholder 6" descr=""/>
          <p:cNvPicPr/>
          <p:nvPr/>
        </p:nvPicPr>
        <p:blipFill>
          <a:blip r:embed="rId1"/>
          <a:stretch/>
        </p:blipFill>
        <p:spPr>
          <a:xfrm>
            <a:off x="2286000" y="1143000"/>
            <a:ext cx="6858000" cy="5257800"/>
          </a:xfrm>
          <a:prstGeom prst="rect">
            <a:avLst/>
          </a:prstGeom>
          <a:ln w="0">
            <a:noFill/>
          </a:ln>
        </p:spPr>
      </p:pic>
      <p:pic>
        <p:nvPicPr>
          <p:cNvPr id="107" name="Picture 7" descr=""/>
          <p:cNvPicPr/>
          <p:nvPr/>
        </p:nvPicPr>
        <p:blipFill>
          <a:blip r:embed="rId2"/>
          <a:stretch/>
        </p:blipFill>
        <p:spPr>
          <a:xfrm>
            <a:off x="5778360" y="0"/>
            <a:ext cx="3365640" cy="22096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22:05:11Z</dcterms:created>
  <dc:creator>Owner</dc:creator>
  <dc:description/>
  <dc:language>en-US</dc:language>
  <cp:lastModifiedBy>Owner</cp:lastModifiedBy>
  <dcterms:modified xsi:type="dcterms:W3CDTF">2010-12-11T01:34:41Z</dcterms:modified>
  <cp:revision>9</cp:revision>
  <dc:subject/>
  <dc:title>Room Renovation Proposed Budget</dc:title>
</cp:coreProperties>
</file>